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C73-096F-4095-8A7A-39E9424E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C19-CD59-4963-A7AE-37C33C20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778-D20A-44F1-830C-D2C80DE6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9F41-C11C-42CF-B6BE-634951E6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B019-2931-4C17-9681-8FD32CF2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5E6F-BD03-4F9E-A968-9050BDF4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0581-F6BA-4C03-B815-D55D9144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3690-6A75-4A42-987A-F5279703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DCDC-A0E4-45C9-AB51-5C960263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119A-5AF4-4EA0-9A87-E322777A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FC7E-064C-4853-9C8F-3E14F877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CE7-B856-4A29-93CF-9C891E9E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8A59-8CA4-4C40-A663-0F2E655A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179C-7BF2-44B3-BB8F-21DD7AF3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3942-02A8-49CD-A68D-F49D12FF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4A58-4855-447D-9600-A9E93628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E73F-7778-4CD8-851E-8B4AE0B1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A6E-C83E-4333-AACB-B7AA1A3A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BA3-7060-485E-8558-DDF35A88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63B7-78C8-4CB6-B93A-AC1E6584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600-CA1A-4BC8-9520-9B1EAE73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0B5-AF47-45FE-B60A-9DF4F776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FC0-E681-46CC-9E30-C609ECDB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E4AB-15FE-4368-8255-4B5ACD54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CC65-AAED-4E04-AA81-70DDB4CFDD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6E46-07D8-4558-9643-142135671F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1981080" y="2209680"/>
            <a:ext cx="3733920" cy="25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20"/>
          <p:cNvCxnSpPr>
            <a:stCxn id="82" idx="0"/>
            <a:endCxn id="83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Straight Arrow Connector 22"/>
          <p:cNvCxnSpPr>
            <a:stCxn id="83" idx="3"/>
            <a:endCxn id="85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Straight Arrow Connector 24"/>
          <p:cNvCxnSpPr>
            <a:stCxn id="83" idx="2"/>
            <a:endCxn id="84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3" name="Straight Arrow Connector 28"/>
          <p:cNvCxnSpPr>
            <a:stCxn id="84" idx="3"/>
            <a:endCxn id="86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Straight Arrow Connector 30"/>
          <p:cNvCxnSpPr>
            <a:stCxn id="86" idx="3"/>
            <a:endCxn id="88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Straight Arrow Connector 32"/>
          <p:cNvCxnSpPr>
            <a:stCxn id="84" idx="3"/>
            <a:endCxn id="87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Straight Arrow Connector 34"/>
          <p:cNvCxnSpPr>
            <a:stCxn id="87" idx="2"/>
            <a:endCxn id="89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36"/>
          <p:cNvCxnSpPr>
            <a:stCxn id="84" idx="3"/>
            <a:endCxn id="90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38"/>
          <p:cNvCxnSpPr>
            <a:stCxn id="84" idx="2"/>
            <a:endCxn id="91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40"/>
          <p:cNvCxnSpPr>
            <a:stCxn id="91" idx="2"/>
            <a:endCxn id="92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42"/>
          <p:cNvCxnSpPr>
            <a:stCxn id="92" idx="1"/>
            <a:endCxn id="93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44"/>
          <p:cNvCxnSpPr>
            <a:stCxn id="93" idx="1"/>
            <a:endCxn id="94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Straight Arrow Connector 46"/>
          <p:cNvCxnSpPr>
            <a:stCxn id="95" idx="3"/>
            <a:endCxn id="96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48"/>
          <p:cNvCxnSpPr>
            <a:stCxn id="94" idx="2"/>
            <a:endCxn id="95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50"/>
          <p:cNvCxnSpPr>
            <a:stCxn id="94" idx="0"/>
            <a:endCxn id="97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52"/>
          <p:cNvCxnSpPr>
            <a:stCxn id="97" idx="0"/>
            <a:endCxn id="82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49"/>
          <p:cNvCxnSpPr>
            <a:stCxn id="116" idx="1"/>
            <a:endCxn id="91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Frame 37"/>
          <p:cNvSpPr/>
          <p:nvPr/>
        </p:nvSpPr>
        <p:spPr>
          <a:xfrm>
            <a:off x="5105520" y="3962520"/>
            <a:ext cx="2361960" cy="1143000"/>
          </a:xfrm>
          <a:custGeom>
            <a:avLst/>
            <a:gdLst>
              <a:gd name="textAreaLeft" fmla="*/ 142560 w 2361960"/>
              <a:gd name="textAreaRight" fmla="*/ 2219400 w 2361960"/>
              <a:gd name="textAreaTop" fmla="*/ 142920 h 1143000"/>
              <a:gd name="textAreaBottom" fmla="*/ 1000440 h 1143000"/>
            </a:gdLst>
            <a:ahLst/>
            <a:rect l="textAreaLeft" t="textAreaTop" r="textAreaRight" b="textAreaBottom"/>
            <a:pathLst>
              <a:path w="2362200" h="1143000">
                <a:moveTo>
                  <a:pt x="0" y="0"/>
                </a:moveTo>
                <a:lnTo>
                  <a:pt x="2362200" y="0"/>
                </a:lnTo>
                <a:lnTo>
                  <a:pt x="2362200" y="1143000"/>
                </a:lnTo>
                <a:lnTo>
                  <a:pt x="0" y="1143000"/>
                </a:lnTo>
                <a:close/>
                <a:moveTo>
                  <a:pt x="142875" y="142875"/>
                </a:moveTo>
                <a:lnTo>
                  <a:pt x="142875" y="1000125"/>
                </a:lnTo>
                <a:lnTo>
                  <a:pt x="2219325" y="1000125"/>
                </a:lnTo>
                <a:lnTo>
                  <a:pt x="2219325" y="1428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a Great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9" descr="MCj02404790000[1]"/>
          <p:cNvPicPr/>
          <p:nvPr/>
        </p:nvPicPr>
        <p:blipFill>
          <a:blip r:embed="rId1"/>
          <a:stretch/>
        </p:blipFill>
        <p:spPr>
          <a:xfrm>
            <a:off x="7620120" y="228600"/>
            <a:ext cx="1290600" cy="18129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495680" y="175248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50532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809880" y="3657600"/>
            <a:ext cx="426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657600" y="22096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asonable prediction of what might happen based on observations, inferences, and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04920" y="2209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 (def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685800" y="380880"/>
            <a:ext cx="7696080" cy="65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late for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hoice #1- Levels in the “If”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__________________________________ chang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(independent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___________________ to ____________________ to ________________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(level of IV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(level of IV)                             (level of I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_______________________ will _________________________________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(pick a level of IV)                                   (dependent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use _________________________________________________________ 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hoice  #2- Levels in the “then”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__________________________________ chan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dependent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__________________________ will _____________________________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(pick a level of IV)                                 (dependent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n __________________________   and ____________________________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(other level of IV)                               (other level of I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use _________________________________________________________ 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2895480" y="152280"/>
            <a:ext cx="5867640" cy="82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Choice #1:</a:t>
            </a:r>
            <a:br>
              <a:rPr sz="2800"/>
            </a:b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f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coffee cup changes from metal to pap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al cup will have a higher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ecause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per cup is th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Choice #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ype of coffee cup chang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al cups will have a higher temperature than paper c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aper cup is th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228600" y="457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MCFD00042_0000[1]"/>
          <p:cNvPicPr/>
          <p:nvPr/>
        </p:nvPicPr>
        <p:blipFill>
          <a:blip r:embed="rId1"/>
          <a:stretch/>
        </p:blipFill>
        <p:spPr>
          <a:xfrm>
            <a:off x="228600" y="1295280"/>
            <a:ext cx="1136520" cy="1741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Cj04099350000[1]"/>
          <p:cNvPicPr/>
          <p:nvPr/>
        </p:nvPicPr>
        <p:blipFill>
          <a:blip r:embed="rId2"/>
          <a:stretch/>
        </p:blipFill>
        <p:spPr>
          <a:xfrm>
            <a:off x="1219320" y="4498920"/>
            <a:ext cx="141588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MCj02383890000[1]"/>
          <p:cNvPicPr/>
          <p:nvPr/>
        </p:nvPicPr>
        <p:blipFill>
          <a:blip r:embed="rId3"/>
          <a:stretch/>
        </p:blipFill>
        <p:spPr>
          <a:xfrm>
            <a:off x="1600200" y="2743200"/>
            <a:ext cx="1266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346680"/>
            <a:ext cx="9144000" cy="59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wrong with the following example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I put coffee into 2 cups, then metal cups will keep the coffee hotter than paper cups because metal retains hea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3 brands of basketballs are bounced from two meters, then the Reebok brand will bounce higher than Nike and Wal-mart b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different colors of light are used, then plants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yellow light will grow the fastest because the sun is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ye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riting a Great Hypothesis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ng th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62520" y="1600200"/>
            <a:ext cx="487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ed:  The results back up th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uted:  The results do not back up th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Documents and Settings\krose\Local Settings\Temporary Internet Files\Content.IE5\R1SUNYR0\MCj04238420000[1].wmf"/>
          <p:cNvPicPr/>
          <p:nvPr/>
        </p:nvPicPr>
        <p:blipFill>
          <a:blip r:embed="rId1"/>
          <a:stretch/>
        </p:blipFill>
        <p:spPr>
          <a:xfrm>
            <a:off x="7162920" y="2784600"/>
            <a:ext cx="990360" cy="1071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Documents and Settings\krose\Local Settings\Temporary Internet Files\Content.IE5\R1SUNYR0\MCj04238560000[1].wmf"/>
          <p:cNvPicPr/>
          <p:nvPr/>
        </p:nvPicPr>
        <p:blipFill>
          <a:blip r:embed="rId2"/>
          <a:stretch/>
        </p:blipFill>
        <p:spPr>
          <a:xfrm>
            <a:off x="7162920" y="4495680"/>
            <a:ext cx="1143000" cy="107964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8"/>
          <p:cNvSpPr/>
          <p:nvPr/>
        </p:nvSpPr>
        <p:spPr>
          <a:xfrm flipH="1">
            <a:off x="3886200" y="1525680"/>
            <a:ext cx="1440" cy="42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MSSN00870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" name="MSSN00507A0000[1].wav" descr=""/>
          <p:cNvPicPr/>
          <p:nvPr/>
        </p:nvPicPr>
        <p:blipFill>
          <a:blip r:embed="rId4"/>
          <a:stretch/>
        </p:blipFill>
        <p:spPr>
          <a:xfrm>
            <a:off x="75438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1" name="Straight Connector 13"/>
          <p:cNvSpPr/>
          <p:nvPr/>
        </p:nvSpPr>
        <p:spPr>
          <a:xfrm>
            <a:off x="0" y="579132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6"/>
          <p:cNvSpPr/>
          <p:nvPr/>
        </p:nvSpPr>
        <p:spPr>
          <a:xfrm>
            <a:off x="7560" y="594360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mmary:  A great hypothes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72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381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ce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e if the following hypotheses are testable and properly worded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 = testab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PW = properly wor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T = not testable                        NPW = not properly wor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I give my plants fertilizer, then they will grow as big as my neighbor’s pl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I get lucky, then my plants will grow bigger, because people that are lucky usually have nice gard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y plants aren’t growing bigger because I don’t water them enoug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amount of fertilizer is increased, then plants with a lot of fertilizer will grow more than plants with no or some fertilizer because fertilizer gives plants more nutri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MCj01997070000[1]"/>
          <p:cNvPicPr/>
          <p:nvPr/>
        </p:nvPicPr>
        <p:blipFill>
          <a:blip r:embed="rId1"/>
          <a:stretch/>
        </p:blipFill>
        <p:spPr>
          <a:xfrm>
            <a:off x="7315200" y="457200"/>
            <a:ext cx="147636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pink bug.jpg"/>
          <p:cNvPicPr/>
          <p:nvPr/>
        </p:nvPicPr>
        <p:blipFill>
          <a:blip r:embed="rId1"/>
          <a:stretch/>
        </p:blipFill>
        <p:spPr>
          <a:xfrm>
            <a:off x="304920" y="0"/>
            <a:ext cx="990360" cy="10177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380880" y="838080"/>
            <a:ext cx="8305920" cy="72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k Bug Hypothes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#1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mount of chem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dose to 2 doses to 3 do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doses will take less time to lose the extra antenn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doses is 3 times as str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mount of chem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doses will take less time to lose the extra antennae than 1 dose or 2 do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doses is 3 times as str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8:02:52Z</dcterms:created>
  <dc:creator>Jean Kavanagh</dc:creator>
  <dc:description/>
  <dc:language>en-US</dc:language>
  <cp:lastModifiedBy>Jean Kavanagh</cp:lastModifiedBy>
  <dcterms:modified xsi:type="dcterms:W3CDTF">2010-08-30T22:32:38Z</dcterms:modified>
  <cp:revision>33</cp:revision>
  <dc:subject/>
  <dc:title>Writing a Hypothesis</dc:title>
</cp:coreProperties>
</file>